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100-788A-4997-B471-57722478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FCA-23E1-4AB4-8DBB-4735CF37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ADF-DAC7-4F10-A00D-8986FB73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798-7D3D-45F2-9D47-96E1094F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303-C2F6-4821-B229-3088E4AA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331-6FDE-46B1-8AE6-2F59BC53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088-693D-4FFC-BE70-4222AB38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9A8-E2F9-4F15-88CD-8C08D00E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E27-64CE-4016-B6AC-40E89BA4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BE4-1DFE-491A-B77A-70E9AA5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DA5-1C1B-46E6-9BDB-5B26BB20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11C-D790-4103-905E-1E3A339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946F-8C12-4847-81EE-F6B2CF689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achmartyscamp.com/stickma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A Day in the Life of a Sti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181480"/>
            <a:ext cx="50292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ivot Ma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rt &amp; Technology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100320"/>
            <a:ext cx="190512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9360" y="533520"/>
            <a:ext cx="9162720" cy="602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62320" y="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sement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1952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077400" cy="6172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62320" y="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123920"/>
            <a:ext cx="8915400" cy="573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66880" y="152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360" y="685800"/>
            <a:ext cx="9125280" cy="5691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wbo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opter 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62320" y="152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y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0" y="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ning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8280" y="990720"/>
            <a:ext cx="7867440" cy="5114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cro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ce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760" y="838080"/>
            <a:ext cx="9096480" cy="6019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from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58320" cy="601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9092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9160" y="685800"/>
            <a:ext cx="8905680" cy="617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bing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7400" y="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ing 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ding an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nter with a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9360" y="685800"/>
            <a:ext cx="9162720" cy="617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096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6:14:09Z</dcterms:created>
  <dc:creator>Patrick J. Mooney</dc:creator>
  <dc:description/>
  <dc:language>en-US</dc:language>
  <cp:lastModifiedBy>Oxley Family</cp:lastModifiedBy>
  <dcterms:modified xsi:type="dcterms:W3CDTF">2010-04-20T14:16:48Z</dcterms:modified>
  <cp:revision>10</cp:revision>
  <dc:subject/>
  <dc:title>Slide 1</dc:title>
</cp:coreProperties>
</file>